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E994-84B0-478C-A761-E5549B28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750960" y="301680"/>
            <a:ext cx="5302080" cy="39765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48920" y="4503600"/>
            <a:ext cx="59101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more than one place that a call can aba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VRU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ll centers have differ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Session 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A282225-1BEB-44C8-9963-41416306E87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Session 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62468DB-875E-4E72-82B5-936D5CB8B2E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49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8720" y="425520"/>
            <a:ext cx="4332240" cy="92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30640" y="1600200"/>
            <a:ext cx="4113360" cy="274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95520"/>
            <a:ext cx="9144000" cy="31446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9360" y="27655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DR -&gt; TCD’s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1606680"/>
            <a:ext cx="468612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1720" y="2536920"/>
            <a:ext cx="8309160" cy="3179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lobalCallID_callManagerId * (2 to the 24th)) +  globalCallID_cal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CallID_callManagerId = 4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CallID_callId = 8228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ipheralCallKey = (4 * (16777216)) + 82280 = 67191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16600" y="5999040"/>
            <a:ext cx="3394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tcd.PeripheralCallKey = 67191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880" y="5979960"/>
            <a:ext cx="32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ManagerID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Id = 82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760" y="1346040"/>
            <a:ext cx="874872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D.PeripheralCallKey is created out of the CDR.globalCallID_callManagerId + CallDetailRecord. globalCallID_cal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82640" y="5308560"/>
            <a:ext cx="376200" cy="736560"/>
          </a:xfrm>
          <a:prstGeom prst="line">
            <a:avLst/>
          </a:prstGeom>
          <a:ln w="1908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135240" y="5319720"/>
            <a:ext cx="3208320" cy="1073160"/>
          </a:xfrm>
          <a:prstGeom prst="line">
            <a:avLst/>
          </a:prstGeom>
          <a:ln w="1908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678440" y="5278320"/>
            <a:ext cx="260280" cy="738360"/>
          </a:xfrm>
          <a:prstGeom prst="line">
            <a:avLst/>
          </a:prstGeom>
          <a:ln w="1908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Personal Line Activ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720" y="1521000"/>
            <a:ext cx="80010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Party Number -&gt; Instrument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 of instrument -&gt; all othe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strument Port Number = Non-ICM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M table is “master” for Non-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Get a list of all Monitored Extension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720" y="1378080"/>
            <a:ext cx="84646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914400" indent="-45720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D.InstrumentPortNumber = CDR.CalledParty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5760" y="2143080"/>
            <a:ext cx="8686800" cy="4202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 fontScale="99000"/>
          </a:bodyPr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 DISTINCT OriginalCalledPartyNumber, DestIpAdd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 CallDetailRecor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 Convert(Float,OriginalCalledPartyNumber) 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 SELECT InstrumentPortNumb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O  #ICMExte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 t_Termination_Call_Detai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 InstrumentPortNumber in (82490, 82492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Time &gt;= 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Time &lt; 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ADD(ss,dateTimeOrigination,'1/1/1970'))&gt;=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0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 DATEADD(ss,dateTimeOrigination, '1/1/1970')) &gt;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63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37200" y="1947960"/>
            <a:ext cx="1552680" cy="784080"/>
          </a:xfrm>
          <a:prstGeom prst="ellipse">
            <a:avLst/>
          </a:prstGeom>
          <a:noFill/>
          <a:ln w="381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475040" y="2669760"/>
            <a:ext cx="304920" cy="27468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62360" y="2965320"/>
            <a:ext cx="13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links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activit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the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Inbound Personal Line Activ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1378080"/>
            <a:ext cx="84646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914400" indent="-45720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emp table from previous step, find all activity where the destination IP = the ICM monitored IP and the number called is NOT equal to ou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5760" y="2874960"/>
            <a:ext cx="8773920" cy="310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InboundCalls = Count(*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CallDetailRecord CDR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#ICMExtension I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CDR.DestIpAddr = ICM.ip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CDR.OriginalCalledPartyNumber &lt;&gt; ICM.ICMExte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ATEADD(ss,CDR.dateTimeOrigination,'1/1/1970')&gt;=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ATEADD(ss,CDR.dateTimeOrigination,'1/1/1970')&lt;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0320" y="4695840"/>
            <a:ext cx="754704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1560" y="4317840"/>
            <a:ext cx="54561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70000" y="3895560"/>
            <a:ext cx="222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Match known IPAdd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&lt;&gt; monitore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1040" y="3276720"/>
            <a:ext cx="281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Use DestIpAddr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OriginalCalledParty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12880" y="3649680"/>
            <a:ext cx="1857240" cy="66816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24200" y="3654360"/>
            <a:ext cx="1627200" cy="104796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768640" y="4135320"/>
            <a:ext cx="841320" cy="21744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095520" y="4133880"/>
            <a:ext cx="482760" cy="5461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bound Personal Line Activ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5760" y="2774880"/>
            <a:ext cx="8773920" cy="310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 OutboundCalls = Count(*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CallDetailRecord CDR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#ICMExtension I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CDR.OrigIpAddr = ICM.ip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CDR.OriginalCallingPartyNumber &lt;&gt; ICM.ICMExte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ATEADD(ss,CDR.dateTimeOrigination,'1/1/1970')&gt;=@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ATEADD(ss,CDR.dateTimeOrigination,'1/1/1970')&lt; @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0320" y="4595760"/>
            <a:ext cx="7547040" cy="289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1560" y="4218120"/>
            <a:ext cx="5456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720" y="1378080"/>
            <a:ext cx="846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11448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Originating IP Address = to the ICM Monitored IP where the CallingPartyNumber is NOT equal to our ICM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70000" y="3895560"/>
            <a:ext cx="222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Match known IPAdd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&lt;&gt; monitore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51760" y="3276720"/>
            <a:ext cx="287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Use OrigIpAddr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OriginalCallingParty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12880" y="3649680"/>
            <a:ext cx="1857240" cy="66816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695400" y="3654360"/>
            <a:ext cx="1641240" cy="10051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768640" y="4135320"/>
            <a:ext cx="841320" cy="21744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95520" y="4133880"/>
            <a:ext cx="482760" cy="5461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286200">
            <a:off x="766800" y="1742760"/>
            <a:ext cx="4916520" cy="1488960"/>
          </a:xfrm>
          <a:prstGeom prst="ellipse">
            <a:avLst/>
          </a:prstGeom>
          <a:noFill/>
          <a:ln w="2844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4160" y="2954160"/>
            <a:ext cx="777960" cy="395640"/>
          </a:xfrm>
          <a:prstGeom prst="ellipse">
            <a:avLst/>
          </a:prstGeom>
          <a:solidFill>
            <a:srgbClr val="4798a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92360" y="2219400"/>
            <a:ext cx="704520" cy="574200"/>
            <a:chOff x="1692360" y="2219400"/>
            <a:chExt cx="704520" cy="574200"/>
          </a:xfrm>
        </p:grpSpPr>
        <p:sp>
          <p:nvSpPr>
            <p:cNvPr id="147" name=""/>
            <p:cNvSpPr/>
            <p:nvPr/>
          </p:nvSpPr>
          <p:spPr>
            <a:xfrm>
              <a:off x="1692360" y="2219400"/>
              <a:ext cx="474120" cy="357120"/>
            </a:xfrm>
            <a:prstGeom prst="can">
              <a:avLst>
                <a:gd name="adj" fmla="val 25000"/>
              </a:avLst>
            </a:prstGeom>
            <a:solidFill>
              <a:srgbClr val="0183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12920" y="2427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08560" y="1938240"/>
            <a:ext cx="689040" cy="400320"/>
            <a:chOff x="4408560" y="1938240"/>
            <a:chExt cx="689040" cy="400320"/>
          </a:xfrm>
        </p:grpSpPr>
        <p:sp>
          <p:nvSpPr>
            <p:cNvPr id="150" name=""/>
            <p:cNvSpPr/>
            <p:nvPr/>
          </p:nvSpPr>
          <p:spPr>
            <a:xfrm>
              <a:off x="4408560" y="1938240"/>
              <a:ext cx="459360" cy="268560"/>
            </a:xfrm>
            <a:prstGeom prst="can">
              <a:avLst>
                <a:gd name="adj" fmla="val 25000"/>
              </a:avLst>
            </a:prstGeom>
            <a:solidFill>
              <a:srgbClr val="83a2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3640" y="2001600"/>
              <a:ext cx="1839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59160" y="2735280"/>
            <a:ext cx="1490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18800" y="2746440"/>
            <a:ext cx="196920" cy="93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67400" y="2751120"/>
            <a:ext cx="1504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09960" y="2392200"/>
          <a:ext cx="3744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2392200"/>
                    <a:ext cx="3744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4237200" y="2146320"/>
            <a:ext cx="1168200" cy="411120"/>
            <a:chOff x="4237200" y="2146320"/>
            <a:chExt cx="1168200" cy="411120"/>
          </a:xfrm>
        </p:grpSpPr>
        <p:sp>
          <p:nvSpPr>
            <p:cNvPr id="158" name=""/>
            <p:cNvSpPr/>
            <p:nvPr/>
          </p:nvSpPr>
          <p:spPr>
            <a:xfrm>
              <a:off x="4237200" y="2146320"/>
              <a:ext cx="501120" cy="315720"/>
            </a:xfrm>
            <a:prstGeom prst="can">
              <a:avLst>
                <a:gd name="adj" fmla="val 25000"/>
              </a:avLst>
            </a:prstGeom>
            <a:solidFill>
              <a:srgbClr val="83a2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9960" y="2220840"/>
              <a:ext cx="595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19600" y="2314440"/>
            <a:ext cx="83988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044720" y="2446200"/>
            <a:ext cx="914400" cy="50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99000" y="21877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997680" y="2205000"/>
            <a:ext cx="802440" cy="253440"/>
            <a:chOff x="6997680" y="2205000"/>
            <a:chExt cx="802440" cy="253440"/>
          </a:xfrm>
        </p:grpSpPr>
        <p:sp>
          <p:nvSpPr>
            <p:cNvPr id="164" name=""/>
            <p:cNvSpPr/>
            <p:nvPr/>
          </p:nvSpPr>
          <p:spPr>
            <a:xfrm>
              <a:off x="7002000" y="2207160"/>
              <a:ext cx="779760" cy="235080"/>
            </a:xfrm>
            <a:custGeom>
              <a:avLst/>
              <a:gdLst/>
              <a:ahLst/>
              <a:rect l="l" t="t" r="r" b="b"/>
              <a:pathLst>
                <a:path w="631" h="180">
                  <a:moveTo>
                    <a:pt x="630" y="104"/>
                  </a:moveTo>
                  <a:lnTo>
                    <a:pt x="556" y="179"/>
                  </a:lnTo>
                  <a:lnTo>
                    <a:pt x="0" y="179"/>
                  </a:lnTo>
                  <a:lnTo>
                    <a:pt x="0" y="75"/>
                  </a:lnTo>
                  <a:lnTo>
                    <a:pt x="74" y="0"/>
                  </a:lnTo>
                  <a:lnTo>
                    <a:pt x="630" y="0"/>
                  </a:lnTo>
                  <a:lnTo>
                    <a:pt x="630" y="104"/>
                  </a:lnTo>
                </a:path>
              </a:pathLst>
            </a:custGeom>
            <a:solidFill>
              <a:srgbClr val="c1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06680" y="2305080"/>
              <a:ext cx="685440" cy="132840"/>
            </a:xfrm>
            <a:custGeom>
              <a:avLst/>
              <a:gdLst/>
              <a:ahLst/>
              <a:rect l="l" t="t" r="r" b="b"/>
              <a:pathLst>
                <a:path w="554" h="102">
                  <a:moveTo>
                    <a:pt x="0" y="0"/>
                  </a:moveTo>
                  <a:lnTo>
                    <a:pt x="553" y="0"/>
                  </a:lnTo>
                  <a:lnTo>
                    <a:pt x="5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06680" y="2300760"/>
              <a:ext cx="690120" cy="20520"/>
            </a:xfrm>
            <a:custGeom>
              <a:avLst/>
              <a:gdLst/>
              <a:ahLst/>
              <a:rect l="l" t="t" r="r" b="b"/>
              <a:pathLst>
                <a:path w="558" h="17">
                  <a:moveTo>
                    <a:pt x="557" y="8"/>
                  </a:moveTo>
                  <a:lnTo>
                    <a:pt x="55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53" y="16"/>
                  </a:lnTo>
                  <a:lnTo>
                    <a:pt x="549" y="8"/>
                  </a:lnTo>
                  <a:lnTo>
                    <a:pt x="557" y="8"/>
                  </a:lnTo>
                  <a:lnTo>
                    <a:pt x="557" y="0"/>
                  </a:lnTo>
                  <a:lnTo>
                    <a:pt x="553" y="0"/>
                  </a:lnTo>
                  <a:lnTo>
                    <a:pt x="557" y="8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5640" y="2305080"/>
              <a:ext cx="22320" cy="137160"/>
            </a:xfrm>
            <a:custGeom>
              <a:avLst/>
              <a:gdLst/>
              <a:ahLst/>
              <a:rect l="l" t="t" r="r" b="b"/>
              <a:pathLst>
                <a:path w="17" h="106">
                  <a:moveTo>
                    <a:pt x="8" y="105"/>
                  </a:moveTo>
                  <a:lnTo>
                    <a:pt x="16" y="10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8" y="105"/>
                  </a:lnTo>
                  <a:lnTo>
                    <a:pt x="16" y="105"/>
                  </a:lnTo>
                  <a:lnTo>
                    <a:pt x="16" y="101"/>
                  </a:lnTo>
                  <a:lnTo>
                    <a:pt x="8" y="105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2000" y="2431800"/>
              <a:ext cx="690120" cy="20520"/>
            </a:xfrm>
            <a:custGeom>
              <a:avLst/>
              <a:gdLst/>
              <a:ahLst/>
              <a:rect l="l" t="t" r="r" b="b"/>
              <a:pathLst>
                <a:path w="558" h="17">
                  <a:moveTo>
                    <a:pt x="0" y="8"/>
                  </a:moveTo>
                  <a:lnTo>
                    <a:pt x="4" y="16"/>
                  </a:lnTo>
                  <a:lnTo>
                    <a:pt x="557" y="16"/>
                  </a:lnTo>
                  <a:lnTo>
                    <a:pt x="557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02000" y="2300760"/>
              <a:ext cx="20160" cy="137160"/>
            </a:xfrm>
            <a:custGeom>
              <a:avLst/>
              <a:gdLst/>
              <a:ahLst/>
              <a:rect l="l" t="t" r="r" b="b"/>
              <a:pathLst>
                <a:path w="17" h="106">
                  <a:moveTo>
                    <a:pt x="8" y="0"/>
                  </a:moveTo>
                  <a:lnTo>
                    <a:pt x="0" y="4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16" y="4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0"/>
                  </a:lnTo>
                </a:path>
              </a:pathLst>
            </a:custGeom>
            <a:solidFill>
              <a:srgbClr val="96a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54160" y="2328120"/>
              <a:ext cx="201600" cy="91440"/>
            </a:xfrm>
            <a:custGeom>
              <a:avLst/>
              <a:gdLst/>
              <a:ahLst/>
              <a:rect l="l" t="t" r="r" b="b"/>
              <a:pathLst>
                <a:path w="163" h="70">
                  <a:moveTo>
                    <a:pt x="162" y="0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162" y="69"/>
                  </a:lnTo>
                  <a:lnTo>
                    <a:pt x="162" y="0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9840" y="2323800"/>
              <a:ext cx="206280" cy="2232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8" y="8"/>
                  </a:moveTo>
                  <a:lnTo>
                    <a:pt x="4" y="16"/>
                  </a:lnTo>
                  <a:lnTo>
                    <a:pt x="166" y="16"/>
                  </a:lnTo>
                  <a:lnTo>
                    <a:pt x="166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49840" y="2328120"/>
              <a:ext cx="19800" cy="9756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8" y="65"/>
                  </a:moveTo>
                  <a:lnTo>
                    <a:pt x="16" y="6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8" y="73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8" y="65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4160" y="2413080"/>
              <a:ext cx="206280" cy="23040"/>
            </a:xfrm>
            <a:custGeom>
              <a:avLst/>
              <a:gdLst/>
              <a:ahLst/>
              <a:rect l="l" t="t" r="r" b="b"/>
              <a:pathLst>
                <a:path w="167" h="17">
                  <a:moveTo>
                    <a:pt x="158" y="8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2" y="16"/>
                  </a:lnTo>
                  <a:lnTo>
                    <a:pt x="166" y="8"/>
                  </a:lnTo>
                  <a:lnTo>
                    <a:pt x="162" y="16"/>
                  </a:lnTo>
                  <a:lnTo>
                    <a:pt x="166" y="16"/>
                  </a:lnTo>
                  <a:lnTo>
                    <a:pt x="166" y="8"/>
                  </a:lnTo>
                  <a:lnTo>
                    <a:pt x="158" y="8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49640" y="2323800"/>
              <a:ext cx="22320" cy="9576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8" y="8"/>
                  </a:moveTo>
                  <a:lnTo>
                    <a:pt x="0" y="4"/>
                  </a:lnTo>
                  <a:lnTo>
                    <a:pt x="0" y="73"/>
                  </a:lnTo>
                  <a:lnTo>
                    <a:pt x="16" y="73"/>
                  </a:lnTo>
                  <a:lnTo>
                    <a:pt x="16" y="4"/>
                  </a:lnTo>
                  <a:lnTo>
                    <a:pt x="8" y="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7480" y="2344680"/>
              <a:ext cx="179640" cy="64440"/>
            </a:xfrm>
            <a:custGeom>
              <a:avLst/>
              <a:gdLst/>
              <a:ahLst/>
              <a:rect l="l" t="t" r="r" b="b"/>
              <a:pathLst>
                <a:path w="144" h="49">
                  <a:moveTo>
                    <a:pt x="0" y="0"/>
                  </a:moveTo>
                  <a:lnTo>
                    <a:pt x="143" y="0"/>
                  </a:lnTo>
                  <a:lnTo>
                    <a:pt x="14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67480" y="2344680"/>
              <a:ext cx="179640" cy="64440"/>
            </a:xfrm>
            <a:custGeom>
              <a:avLst/>
              <a:gdLst/>
              <a:ahLst/>
              <a:rect l="l" t="t" r="r" b="b"/>
              <a:pathLst>
                <a:path w="144" h="49">
                  <a:moveTo>
                    <a:pt x="0" y="0"/>
                  </a:moveTo>
                  <a:lnTo>
                    <a:pt x="143" y="0"/>
                  </a:lnTo>
                  <a:lnTo>
                    <a:pt x="14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6aa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0160" y="2373840"/>
              <a:ext cx="135000" cy="0"/>
            </a:xfrm>
            <a:prstGeom prst="line">
              <a:avLst/>
            </a:prstGeom>
            <a:ln w="12600">
              <a:solidFill>
                <a:srgbClr val="96aa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65680" y="2342160"/>
              <a:ext cx="179280" cy="6264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0"/>
                  </a:moveTo>
                  <a:lnTo>
                    <a:pt x="144" y="0"/>
                  </a:lnTo>
                  <a:lnTo>
                    <a:pt x="144" y="47"/>
                  </a:ln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3854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5480" y="2369520"/>
              <a:ext cx="135000" cy="0"/>
            </a:xfrm>
            <a:prstGeom prst="line">
              <a:avLst/>
            </a:prstGeom>
            <a:ln w="12600">
              <a:solidFill>
                <a:srgbClr val="3854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4840" y="2338560"/>
              <a:ext cx="382320" cy="0"/>
            </a:xfrm>
            <a:prstGeom prst="line">
              <a:avLst/>
            </a:prstGeom>
            <a:ln w="12600">
              <a:solidFill>
                <a:srgbClr val="c1d1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0160" y="2334240"/>
              <a:ext cx="384120" cy="0"/>
            </a:xfrm>
            <a:prstGeom prst="line">
              <a:avLst/>
            </a:prstGeom>
            <a:ln w="12600">
              <a:solidFill>
                <a:srgbClr val="567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44840" y="2369520"/>
              <a:ext cx="382320" cy="0"/>
            </a:xfrm>
            <a:prstGeom prst="line">
              <a:avLst/>
            </a:prstGeom>
            <a:ln w="12600">
              <a:solidFill>
                <a:srgbClr val="c1d1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0160" y="2365200"/>
              <a:ext cx="384120" cy="0"/>
            </a:xfrm>
            <a:prstGeom prst="line">
              <a:avLst/>
            </a:prstGeom>
            <a:ln w="12600">
              <a:solidFill>
                <a:srgbClr val="567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4840" y="2400840"/>
              <a:ext cx="382320" cy="0"/>
            </a:xfrm>
            <a:prstGeom prst="line">
              <a:avLst/>
            </a:prstGeom>
            <a:ln w="12600">
              <a:solidFill>
                <a:srgbClr val="c1d1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40160" y="2396520"/>
              <a:ext cx="384120" cy="0"/>
            </a:xfrm>
            <a:prstGeom prst="line">
              <a:avLst/>
            </a:prstGeom>
            <a:ln w="12600">
              <a:solidFill>
                <a:srgbClr val="567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39160" y="2215080"/>
              <a:ext cx="631440" cy="66960"/>
            </a:xfrm>
            <a:custGeom>
              <a:avLst/>
              <a:gdLst/>
              <a:ahLst/>
              <a:rect l="l" t="t" r="r" b="b"/>
              <a:pathLst>
                <a:path w="510" h="51">
                  <a:moveTo>
                    <a:pt x="51" y="0"/>
                  </a:moveTo>
                  <a:lnTo>
                    <a:pt x="509" y="0"/>
                  </a:lnTo>
                  <a:lnTo>
                    <a:pt x="458" y="50"/>
                  </a:lnTo>
                  <a:lnTo>
                    <a:pt x="0" y="50"/>
                  </a:lnTo>
                  <a:lnTo>
                    <a:pt x="51" y="0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01480" y="2211480"/>
              <a:ext cx="71640" cy="745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3" y="57"/>
                  </a:moveTo>
                  <a:lnTo>
                    <a:pt x="6" y="56"/>
                  </a:lnTo>
                  <a:lnTo>
                    <a:pt x="56" y="7"/>
                  </a:lnTo>
                  <a:lnTo>
                    <a:pt x="51" y="0"/>
                  </a:lnTo>
                  <a:lnTo>
                    <a:pt x="0" y="49"/>
                  </a:lnTo>
                  <a:lnTo>
                    <a:pt x="3" y="48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6" y="56"/>
                  </a:lnTo>
                  <a:lnTo>
                    <a:pt x="3" y="57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25840" y="2273760"/>
              <a:ext cx="582120" cy="22320"/>
            </a:xfrm>
            <a:custGeom>
              <a:avLst/>
              <a:gdLst/>
              <a:ahLst/>
              <a:rect l="l" t="t" r="r" b="b"/>
              <a:pathLst>
                <a:path w="470" h="17">
                  <a:moveTo>
                    <a:pt x="8" y="1"/>
                  </a:moveTo>
                  <a:lnTo>
                    <a:pt x="11" y="16"/>
                  </a:lnTo>
                  <a:lnTo>
                    <a:pt x="469" y="16"/>
                  </a:lnTo>
                  <a:lnTo>
                    <a:pt x="469" y="0"/>
                  </a:lnTo>
                  <a:lnTo>
                    <a:pt x="11" y="0"/>
                  </a:lnTo>
                  <a:lnTo>
                    <a:pt x="14" y="14"/>
                  </a:lnTo>
                  <a:lnTo>
                    <a:pt x="8" y="1"/>
                  </a:lnTo>
                  <a:lnTo>
                    <a:pt x="0" y="16"/>
                  </a:lnTo>
                  <a:lnTo>
                    <a:pt x="11" y="16"/>
                  </a:lnTo>
                  <a:lnTo>
                    <a:pt x="8" y="1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4480" y="2208960"/>
              <a:ext cx="71640" cy="766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4" y="0"/>
                  </a:moveTo>
                  <a:lnTo>
                    <a:pt x="51" y="1"/>
                  </a:lnTo>
                  <a:lnTo>
                    <a:pt x="0" y="50"/>
                  </a:lnTo>
                  <a:lnTo>
                    <a:pt x="6" y="57"/>
                  </a:lnTo>
                  <a:lnTo>
                    <a:pt x="57" y="8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54" y="0"/>
                  </a:lnTo>
                </a:path>
              </a:pathLst>
            </a:custGeom>
            <a:solidFill>
              <a:srgbClr val="7c9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94640" y="2217600"/>
              <a:ext cx="85320" cy="209880"/>
            </a:xfrm>
            <a:custGeom>
              <a:avLst/>
              <a:gdLst/>
              <a:ahLst/>
              <a:rect l="l" t="t" r="r" b="b"/>
              <a:pathLst>
                <a:path w="68" h="162">
                  <a:moveTo>
                    <a:pt x="0" y="161"/>
                  </a:moveTo>
                  <a:lnTo>
                    <a:pt x="0" y="68"/>
                  </a:lnTo>
                  <a:lnTo>
                    <a:pt x="67" y="0"/>
                  </a:lnTo>
                  <a:lnTo>
                    <a:pt x="67" y="94"/>
                  </a:lnTo>
                  <a:lnTo>
                    <a:pt x="0" y="161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90320" y="2300760"/>
              <a:ext cx="19800" cy="126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2" y="0"/>
                  </a:moveTo>
                  <a:lnTo>
                    <a:pt x="0" y="3"/>
                  </a:lnTo>
                  <a:lnTo>
                    <a:pt x="0" y="96"/>
                  </a:lnTo>
                  <a:lnTo>
                    <a:pt x="16" y="96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92480" y="2205000"/>
              <a:ext cx="92160" cy="1040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4" y="9"/>
                  </a:moveTo>
                  <a:lnTo>
                    <a:pt x="68" y="6"/>
                  </a:lnTo>
                  <a:lnTo>
                    <a:pt x="0" y="74"/>
                  </a:lnTo>
                  <a:lnTo>
                    <a:pt x="5" y="79"/>
                  </a:lnTo>
                  <a:lnTo>
                    <a:pt x="72" y="11"/>
                  </a:lnTo>
                  <a:lnTo>
                    <a:pt x="66" y="9"/>
                  </a:lnTo>
                  <a:lnTo>
                    <a:pt x="74" y="9"/>
                  </a:lnTo>
                  <a:lnTo>
                    <a:pt x="74" y="0"/>
                  </a:lnTo>
                  <a:lnTo>
                    <a:pt x="68" y="6"/>
                  </a:lnTo>
                  <a:lnTo>
                    <a:pt x="74" y="9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3480" y="2217600"/>
              <a:ext cx="19800" cy="12672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12" y="97"/>
                  </a:moveTo>
                  <a:lnTo>
                    <a:pt x="16" y="9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4" y="92"/>
                  </a:lnTo>
                  <a:lnTo>
                    <a:pt x="12" y="97"/>
                  </a:lnTo>
                  <a:lnTo>
                    <a:pt x="16" y="96"/>
                  </a:lnTo>
                  <a:lnTo>
                    <a:pt x="16" y="94"/>
                  </a:lnTo>
                  <a:lnTo>
                    <a:pt x="12" y="97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90320" y="2336040"/>
              <a:ext cx="91440" cy="10404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0" y="69"/>
                  </a:moveTo>
                  <a:lnTo>
                    <a:pt x="6" y="71"/>
                  </a:lnTo>
                  <a:lnTo>
                    <a:pt x="73" y="5"/>
                  </a:lnTo>
                  <a:lnTo>
                    <a:pt x="69" y="0"/>
                  </a:lnTo>
                  <a:lnTo>
                    <a:pt x="1" y="67"/>
                  </a:lnTo>
                  <a:lnTo>
                    <a:pt x="8" y="69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6" y="71"/>
                  </a:lnTo>
                  <a:lnTo>
                    <a:pt x="0" y="69"/>
                  </a:lnTo>
                </a:path>
              </a:pathLst>
            </a:custGeom>
            <a:solidFill>
              <a:srgbClr val="56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87800" y="2342160"/>
              <a:ext cx="96840" cy="1040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1" y="79"/>
                  </a:moveTo>
                  <a:lnTo>
                    <a:pt x="3" y="78"/>
                  </a:lnTo>
                  <a:lnTo>
                    <a:pt x="77" y="3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1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97680" y="2436120"/>
              <a:ext cx="694800" cy="22320"/>
            </a:xfrm>
            <a:custGeom>
              <a:avLst/>
              <a:gdLst/>
              <a:ahLst/>
              <a:rect l="l" t="t" r="r" b="b"/>
              <a:pathLst>
                <a:path w="560" h="17">
                  <a:moveTo>
                    <a:pt x="0" y="8"/>
                  </a:moveTo>
                  <a:lnTo>
                    <a:pt x="3" y="16"/>
                  </a:lnTo>
                  <a:lnTo>
                    <a:pt x="559" y="16"/>
                  </a:lnTo>
                  <a:lnTo>
                    <a:pt x="559" y="0"/>
                  </a:lnTo>
                  <a:lnTo>
                    <a:pt x="3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97680" y="2302920"/>
              <a:ext cx="20160" cy="1389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2" y="0"/>
                  </a:moveTo>
                  <a:lnTo>
                    <a:pt x="0" y="2"/>
                  </a:lnTo>
                  <a:lnTo>
                    <a:pt x="0" y="106"/>
                  </a:lnTo>
                  <a:lnTo>
                    <a:pt x="16" y="106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0200" y="2205000"/>
              <a:ext cx="96120" cy="1022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6" y="0"/>
                  </a:moveTo>
                  <a:lnTo>
                    <a:pt x="74" y="1"/>
                  </a:lnTo>
                  <a:lnTo>
                    <a:pt x="0" y="75"/>
                  </a:lnTo>
                  <a:lnTo>
                    <a:pt x="4" y="78"/>
                  </a:lnTo>
                  <a:lnTo>
                    <a:pt x="78" y="4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9960" y="2207160"/>
              <a:ext cx="20160" cy="1389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12" y="106"/>
                  </a:moveTo>
                  <a:lnTo>
                    <a:pt x="16" y="10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3" y="103"/>
                  </a:lnTo>
                  <a:lnTo>
                    <a:pt x="12" y="106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002000" y="2212920"/>
              <a:ext cx="87480" cy="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401600" y="20131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-IV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48440" y="2422440"/>
          <a:ext cx="38412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8440" y="2422440"/>
                    <a:ext cx="3841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7051680" y="2784600"/>
            <a:ext cx="72540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643800" y="2216160"/>
            <a:ext cx="268200" cy="11844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0600 h 1184400"/>
              <a:gd name="textAreaBottom" fmla="*/ 1153800 h 118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46920" y="2305080"/>
            <a:ext cx="49392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21400" y="3251160"/>
            <a:ext cx="49536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25800" y="1916280"/>
            <a:ext cx="987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/H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07720" y="2168640"/>
            <a:ext cx="850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3240" y="2793960"/>
            <a:ext cx="422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57920" y="2855880"/>
            <a:ext cx="422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3772080"/>
            <a:ext cx="836460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 is not aware of who end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in the CDR of the C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based on key value assigned by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when looked at by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720" y="1521000"/>
            <a:ext cx="80010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Cause_Value OR OrigCause_Value = 16 (Normal Clearn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D.PeripheralCallKey and  CDR.globalCallID_callManagerId + CDR.globalCallID_cal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D.DateTime and CDR.dateTimeOrig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71600" y="1257480"/>
            <a:ext cx="6648480" cy="3217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02680" y="1278000"/>
            <a:ext cx="1698480" cy="884160"/>
          </a:xfrm>
          <a:prstGeom prst="ellipse">
            <a:avLst/>
          </a:prstGeom>
          <a:noFill/>
          <a:ln w="381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34800" y="4143240"/>
            <a:ext cx="7394760" cy="2146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27200" y="4199040"/>
            <a:ext cx="1946160" cy="579240"/>
          </a:xfrm>
          <a:prstGeom prst="ellipse">
            <a:avLst/>
          </a:prstGeom>
          <a:noFill/>
          <a:ln w="381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6120" y="2581200"/>
            <a:ext cx="3394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tcd.PeripheralCallKey = 67191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91320" y="2074680"/>
            <a:ext cx="1698480" cy="609480"/>
          </a:xfrm>
          <a:prstGeom prst="line">
            <a:avLst/>
          </a:prstGeom>
          <a:ln w="2844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5120" y="3429000"/>
            <a:ext cx="32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ManagerID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Id = 82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47760" y="3959280"/>
            <a:ext cx="784440" cy="45252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84400" y="3951360"/>
            <a:ext cx="69840" cy="447480"/>
          </a:xfrm>
          <a:prstGeom prst="line">
            <a:avLst/>
          </a:prstGeom>
          <a:ln w="38160">
            <a:solidFill>
              <a:srgbClr val="b21a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Find Out Who Hung Up Fir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16600" y="5878440"/>
            <a:ext cx="3394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tcd.PeripheralCallKey = 67191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80" y="5786280"/>
            <a:ext cx="32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ManagerID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21a1a"/>
                </a:solidFill>
                <a:latin typeface="Arial"/>
              </a:rPr>
              <a:t>globalCallID_CallId = 82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346040"/>
            <a:ext cx="83646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D.PeripheralCall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by the CallManager Periph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.globalCallID_CallManage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ies the Cisco CallManager node within a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.globalCallID_Cal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call identity value that is assigned to each call independently on each call ser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0:20:32Z</dcterms:created>
  <dc:creator>paiged</dc:creator>
  <dc:description/>
  <dc:language>en-US</dc:language>
  <cp:lastModifiedBy>paiged</cp:lastModifiedBy>
  <dcterms:modified xsi:type="dcterms:W3CDTF">2007-07-11T00:20:45Z</dcterms:modified>
  <cp:revision>1</cp:revision>
  <dc:subject/>
  <dc:title>Slide 1</dc:title>
</cp:coreProperties>
</file>